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66D7-0A1C-46CD-89A2-2EB12A8C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FCD9-6A73-48C2-B8A0-7253FE49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153D-EF58-45C0-BB1F-122CFA2A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9969-9482-4192-8076-8163437F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4399-4D89-4765-BD7D-7035463D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C15D-0E7B-4321-8C15-C2F4EE47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1004-6846-4D50-AB0F-60EAB6CF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3973-5A86-486D-BFFE-54D299AE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B5CF-3EE2-40D1-822D-1C179B53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0573-1C1E-4E0C-AB72-FD6BAFA6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FFC5-6E87-4261-A6F0-6097F249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28D5-034B-4DF3-BBEA-AEA70BAF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E840-C283-41E5-8AF1-CB6F8C467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1532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00000" y="480960"/>
            <a:ext cx="77756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68360" y="1163520"/>
            <a:ext cx="46800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700360" y="1197000"/>
            <a:ext cx="39513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340000" y="1341360"/>
            <a:ext cx="48243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2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92360" y="981000"/>
            <a:ext cx="604836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03280" y="549360"/>
            <a:ext cx="662472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332000" y="817560"/>
            <a:ext cx="66960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195640" y="692280"/>
            <a:ext cx="4471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68360" y="1197000"/>
            <a:ext cx="4548240" cy="4548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40000" y="68256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7777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04:43:05Z</dcterms:created>
  <dc:creator>du</dc:creator>
  <dc:description/>
  <dc:language>en-US</dc:language>
  <cp:lastModifiedBy>du</cp:lastModifiedBy>
  <dcterms:modified xsi:type="dcterms:W3CDTF">2009-11-16T04:43:06Z</dcterms:modified>
  <cp:revision>1</cp:revision>
  <dc:subject/>
  <dc:title>Slide 1</dc:title>
</cp:coreProperties>
</file>